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E70A-8B4A-43DB-B3F5-7F609DF58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8693-0EBC-43AE-8282-3A6435C8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DB7FD-058B-4EF4-9BE3-BC6693298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A3E16-2D3D-4782-A085-7358B922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2CE0-2A08-4AED-B9BE-7AA04F843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E3DC-ADB9-40B0-A3A7-29011DE31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1F569-E740-46A5-9B15-5459ADBE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Text Box 4"/>
          <p:cNvSpPr/>
          <p:nvPr/>
        </p:nvSpPr>
        <p:spPr>
          <a:xfrm>
            <a:off x="1120680" y="4892760"/>
            <a:ext cx="196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6BAD-31CD-484B-9C02-6A7B32AA3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D2987-F86C-44A4-BF83-D6439F1E8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A93E2-663F-4BB3-8B69-032937D3B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1A385-2270-4CA9-93F4-4A84046E7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27252-EDF7-4241-94BC-8F4AFE4E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E09A4-4BBC-4EF0-BF01-B9CE835EE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9AD5-D142-4D2D-9BEF-8B2E52135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851D0-2183-4DC8-8126-9FE8B15D0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CA438-34DA-42CA-977E-752A98D5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Text Box 4"/>
          <p:cNvSpPr/>
          <p:nvPr/>
        </p:nvSpPr>
        <p:spPr>
          <a:xfrm>
            <a:off x="1284120" y="4892760"/>
            <a:ext cx="1954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C383B-DFA0-4EB7-8F7F-A430EE5E7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Text Box 4"/>
          <p:cNvSpPr/>
          <p:nvPr/>
        </p:nvSpPr>
        <p:spPr>
          <a:xfrm>
            <a:off x="1544760" y="4960800"/>
            <a:ext cx="196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jpeg"/><Relationship Id="rId15" Type="http://schemas.openxmlformats.org/officeDocument/2006/relationships/image" Target="../media/image4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jpe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bttn_prev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bttn_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bttn_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3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USH.png"/>
          <p:cNvPicPr/>
          <p:nvPr/>
        </p:nvPicPr>
        <p:blipFill>
          <a:blip r:embed="rId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0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bttn_prev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" descr="bttn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" descr="bttn_next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" descr="bttn_prev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4" descr="bttn_exit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8" descr="bttn_next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9" descr="USH.png"/>
          <p:cNvPicPr/>
          <p:nvPr/>
        </p:nvPicPr>
        <p:blipFill>
          <a:blip r:embed="rId13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4" descr="PE_PP_background3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8"/>
          <p:cNvSpPr/>
          <p:nvPr/>
        </p:nvSpPr>
        <p:spPr>
          <a:xfrm>
            <a:off x="201960" y="3952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New Im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20" descr="USH.png"/>
          <p:cNvPicPr/>
          <p:nvPr/>
        </p:nvPicPr>
        <p:blipFill>
          <a:blip r:embed="rId1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3" descr="bttn_prev">
            <a:hlinkClick r:id="" action="ppaction://hlinkshowjump?jump=previousslide"/>
          </p:cNvPr>
          <p:cNvPicPr/>
          <p:nvPr/>
        </p:nvPicPr>
        <p:blipFill>
          <a:blip r:embed="rId16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4" descr="bttn_exit">
            <a:hlinkClick r:id="" action="ppaction://hlinkshowjump?jump=endshow"/>
          </p:cNvPr>
          <p:cNvPicPr/>
          <p:nvPr/>
        </p:nvPicPr>
        <p:blipFill>
          <a:blip r:embed="rId17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8" descr="bttn_next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532720" y="651816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bttn_prev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bttn_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bttn_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USH.png"/>
          <p:cNvPicPr/>
          <p:nvPr/>
        </p:nvPicPr>
        <p:blipFill>
          <a:blip r:embed="rId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bttn_prev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ttn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bttn_next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bttn_prev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ttn_exit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ttn_next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USH.png"/>
          <p:cNvPicPr/>
          <p:nvPr/>
        </p:nvPicPr>
        <p:blipFill>
          <a:blip r:embed="rId13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PE_PP_background3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8"/>
          <p:cNvSpPr/>
          <p:nvPr/>
        </p:nvSpPr>
        <p:spPr>
          <a:xfrm>
            <a:off x="201960" y="3952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New Im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0" descr="USH.png"/>
          <p:cNvPicPr/>
          <p:nvPr/>
        </p:nvPicPr>
        <p:blipFill>
          <a:blip r:embed="rId1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ttn_exit">
            <a:hlinkClick r:id="" action="ppaction://hlinkshowjump?jump=endshow"/>
          </p:cNvPr>
          <p:cNvPicPr/>
          <p:nvPr/>
        </p:nvPicPr>
        <p:blipFill>
          <a:blip r:embed="rId16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bttn_next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532720" y="651816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8380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“new immigration” of the late 1800s to earlier immig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the push and pull factors leading immigrants to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challenges that immigrants faced in traveling to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immigrants adapted to American life while trying to maintain familiar cultural practices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StatueofLiberty2"/>
          <p:cNvPicPr/>
          <p:nvPr/>
        </p:nvPicPr>
        <p:blipFill>
          <a:blip r:embed="rId1"/>
          <a:stretch/>
        </p:blipFill>
        <p:spPr>
          <a:xfrm>
            <a:off x="380880" y="685800"/>
            <a:ext cx="18511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666880" y="32004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, officers conducte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legal and medical inspections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2 percent were denied entry into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828800" y="15238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immigrants arrived after their long journeys, they were processed at stations such 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lis Isl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New York Harb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14400" y="4876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nese and other Asian immigrants crossing the Pacific were processed a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gel Isl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San Francisco Bay.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ny Chinese were turned a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838080" y="1617840"/>
            <a:ext cx="274320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Chinese immigrants were detained at Angel Islan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for weeks or months in poor condition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waited to see if they would be allow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ay in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SUS_ch14_S1_AngelIsland"/>
          <p:cNvPicPr/>
          <p:nvPr/>
        </p:nvPicPr>
        <p:blipFill>
          <a:blip r:embed="rId1"/>
          <a:stretch/>
        </p:blipFill>
        <p:spPr>
          <a:xfrm>
            <a:off x="3809880" y="1542960"/>
            <a:ext cx="4724640" cy="41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9"/>
          <p:cNvSpPr/>
          <p:nvPr/>
        </p:nvSpPr>
        <p:spPr>
          <a:xfrm>
            <a:off x="1066680" y="51814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rge cities such as New York and Chicago had huge immigrant populations by 189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762120" y="1752120"/>
            <a:ext cx="4266720" cy="2971800"/>
            <a:chOff x="762120" y="1752120"/>
            <a:chExt cx="4266720" cy="2971800"/>
          </a:xfrm>
        </p:grpSpPr>
        <p:sp>
          <p:nvSpPr>
            <p:cNvPr id="156" name="AutoShape 4"/>
            <p:cNvSpPr/>
            <p:nvPr/>
          </p:nvSpPr>
          <p:spPr>
            <a:xfrm flipH="1" rot="5400000">
              <a:off x="1409400" y="1104480"/>
              <a:ext cx="2971800" cy="4266720"/>
            </a:xfrm>
            <a:prstGeom prst="upArrowCallout">
              <a:avLst>
                <a:gd name="adj1" fmla="val 13418"/>
                <a:gd name="adj2" fmla="val 12500"/>
                <a:gd name="adj3" fmla="val 22726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840960" y="1999800"/>
              <a:ext cx="294624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ce in America, immigrants had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find a home and work.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They also had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learn English and new custom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29"/>
          <p:cNvSpPr/>
          <p:nvPr/>
        </p:nvSpPr>
        <p:spPr>
          <a:xfrm>
            <a:off x="5410080" y="224172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ayed in cities and took jobs in factories. They lived i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thnic neighborhoods called ghetto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 flipH="1" rot="10792800">
            <a:off x="1060200" y="1520640"/>
            <a:ext cx="6933960" cy="1831680"/>
          </a:xfrm>
          <a:prstGeom prst="upArrowCallout">
            <a:avLst>
              <a:gd name="adj1" fmla="val 47079"/>
              <a:gd name="adj2" fmla="val 4002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9"/>
          <p:cNvSpPr/>
          <p:nvPr/>
        </p:nvSpPr>
        <p:spPr>
          <a:xfrm>
            <a:off x="1143000" y="16016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migrants had some help coping with their new surround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0"/>
          <p:cNvSpPr/>
          <p:nvPr/>
        </p:nvSpPr>
        <p:spPr>
          <a:xfrm>
            <a:off x="1066680" y="3657600"/>
            <a:ext cx="7391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ttlement houses ra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merican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o help recent immigran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earn English and adopt American dress and di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form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raternal associa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ethnic or religious ident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ich provid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cial services and financial as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3"/>
          <p:cNvGrpSpPr/>
          <p:nvPr/>
        </p:nvGrpSpPr>
        <p:grpSpPr>
          <a:xfrm>
            <a:off x="762120" y="1752480"/>
            <a:ext cx="4266720" cy="4053240"/>
            <a:chOff x="762120" y="1752480"/>
            <a:chExt cx="4266720" cy="4053240"/>
          </a:xfrm>
        </p:grpSpPr>
        <p:sp>
          <p:nvSpPr>
            <p:cNvPr id="163" name="AutoShape 4"/>
            <p:cNvSpPr/>
            <p:nvPr/>
          </p:nvSpPr>
          <p:spPr>
            <a:xfrm flipH="1" rot="5400000">
              <a:off x="1256760" y="1257480"/>
              <a:ext cx="3276720" cy="4266720"/>
            </a:xfrm>
            <a:prstGeom prst="upArrowCallout">
              <a:avLst>
                <a:gd name="adj1" fmla="val 13418"/>
                <a:gd name="adj2" fmla="val 12500"/>
                <a:gd name="adj3" fmla="val 20611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840960" y="2025000"/>
              <a:ext cx="2946240" cy="37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y believed that American society was a </a:t>
              </a:r>
              <a:r>
                <a:rPr b="1" lang="en-US" sz="2200" spc="-1" strike="noStrike">
                  <a:solidFill>
                    <a:srgbClr val="ff0000"/>
                  </a:solidFill>
                  <a:latin typeface="Verdana"/>
                </a:rPr>
                <a:t>“melting pot”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where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white people of different nationalities blended to create a single cultur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29"/>
          <p:cNvSpPr/>
          <p:nvPr/>
        </p:nvSpPr>
        <p:spPr>
          <a:xfrm>
            <a:off x="5410080" y="257652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odel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xcluded Asian immigrant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o became targets of social and legal discri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919760" y="3789360"/>
            <a:ext cx="3124080" cy="1431000"/>
            <a:chOff x="4919760" y="3789360"/>
            <a:chExt cx="3124080" cy="1431000"/>
          </a:xfrm>
        </p:grpSpPr>
        <p:sp>
          <p:nvSpPr>
            <p:cNvPr id="167" name="Rectangle 3"/>
            <p:cNvSpPr/>
            <p:nvPr/>
          </p:nvSpPr>
          <p:spPr>
            <a:xfrm>
              <a:off x="4919760" y="3789360"/>
              <a:ext cx="3124080" cy="13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4995720" y="3906720"/>
              <a:ext cx="297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mmigrants’ children, however,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became more Americaniz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3"/>
          <p:cNvGrpSpPr/>
          <p:nvPr/>
        </p:nvGrpSpPr>
        <p:grpSpPr>
          <a:xfrm>
            <a:off x="1109520" y="3789360"/>
            <a:ext cx="3962520" cy="2367360"/>
            <a:chOff x="1109520" y="3789360"/>
            <a:chExt cx="3962520" cy="2367360"/>
          </a:xfrm>
        </p:grpSpPr>
        <p:sp>
          <p:nvSpPr>
            <p:cNvPr id="170" name="AutoShape 5"/>
            <p:cNvSpPr/>
            <p:nvPr/>
          </p:nvSpPr>
          <p:spPr>
            <a:xfrm rot="16200000">
              <a:off x="4119480" y="412920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6"/>
            <p:cNvGrpSpPr/>
            <p:nvPr/>
          </p:nvGrpSpPr>
          <p:grpSpPr>
            <a:xfrm>
              <a:off x="1109520" y="3789360"/>
              <a:ext cx="3124440" cy="2367360"/>
              <a:chOff x="1109520" y="3789360"/>
              <a:chExt cx="3124440" cy="2367360"/>
            </a:xfrm>
          </p:grpSpPr>
          <p:sp>
            <p:nvSpPr>
              <p:cNvPr id="172" name="Rectangle 7"/>
              <p:cNvSpPr/>
              <p:nvPr/>
            </p:nvSpPr>
            <p:spPr>
              <a:xfrm>
                <a:off x="1109520" y="3789360"/>
                <a:ext cx="3124440" cy="200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1"/>
              <p:cNvSpPr/>
              <p:nvPr/>
            </p:nvSpPr>
            <p:spPr>
              <a:xfrm>
                <a:off x="1200240" y="3928320"/>
                <a:ext cx="2957400" cy="22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They established their own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fraternal lodges, schools, and religious institution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such as churche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AutoShape 9"/>
          <p:cNvSpPr/>
          <p:nvPr/>
        </p:nvSpPr>
        <p:spPr>
          <a:xfrm>
            <a:off x="2090880" y="2570040"/>
            <a:ext cx="914400" cy="1295640"/>
          </a:xfrm>
          <a:prstGeom prst="downArrow">
            <a:avLst>
              <a:gd name="adj1" fmla="val 50000"/>
              <a:gd name="adj2" fmla="val 35423"/>
            </a:avLst>
          </a:prstGeom>
          <a:gradFill rotWithShape="0">
            <a:gsLst>
              <a:gs pos="0">
                <a:srgbClr val="c9c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1095480" y="1828800"/>
            <a:ext cx="6948360" cy="1077480"/>
            <a:chOff x="1095480" y="1828800"/>
            <a:chExt cx="6948360" cy="1077480"/>
          </a:xfrm>
        </p:grpSpPr>
        <p:sp>
          <p:nvSpPr>
            <p:cNvPr id="176" name="Rectangle 11"/>
            <p:cNvSpPr/>
            <p:nvPr/>
          </p:nvSpPr>
          <p:spPr>
            <a:xfrm>
              <a:off x="1095480" y="1828800"/>
              <a:ext cx="6948360" cy="93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1185840" y="1897560"/>
              <a:ext cx="678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spite the hopes of settlement workers, immigrants often held on to their traditio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2"/>
          <p:cNvSpPr/>
          <p:nvPr/>
        </p:nvSpPr>
        <p:spPr>
          <a:xfrm>
            <a:off x="4952880" y="1752480"/>
            <a:ext cx="3733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often dealt with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ativ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hostility from native-born white Americ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2" descr="HSUS_ch14_S1_ImmgrntWelcome"/>
          <p:cNvPicPr/>
          <p:nvPr/>
        </p:nvPicPr>
        <p:blipFill>
          <a:blip r:embed="rId1"/>
          <a:stretch/>
        </p:blipFill>
        <p:spPr>
          <a:xfrm>
            <a:off x="457200" y="1905120"/>
            <a:ext cx="4397400" cy="3622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0" name="Rectangle 22"/>
          <p:cNvSpPr/>
          <p:nvPr/>
        </p:nvSpPr>
        <p:spPr>
          <a:xfrm>
            <a:off x="4952880" y="4038480"/>
            <a:ext cx="3733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igious differences 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ition for jobs and housing led to divisions and prejud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838080" y="2438280"/>
            <a:ext cx="7467840" cy="335304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1219320"/>
          <a:ext cx="7467840" cy="76176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1882, Congress started to restrict immigration to the United Stat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66680" y="2676600"/>
          <a:ext cx="6934320" cy="28861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1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2801"/>
                        </a:spcAft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inese Exclusion Act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rohibited immigration by Chinese laborers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imited the rights of Chinese immigrants in the U.S., and forbade the naturalization of Chinese resid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2801"/>
                        </a:spcAft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gress passed another law that prohibited the immigration of anyone who was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 criminal, immoral, a pauper, or likely to need public assistan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 flipH="1" rot="10792800">
            <a:off x="1058040" y="1294920"/>
            <a:ext cx="7093080" cy="1598760"/>
          </a:xfrm>
          <a:prstGeom prst="upArrowCallout">
            <a:avLst>
              <a:gd name="adj1" fmla="val 55175"/>
              <a:gd name="adj2" fmla="val 4691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9"/>
          <p:cNvSpPr/>
          <p:nvPr/>
        </p:nvSpPr>
        <p:spPr>
          <a:xfrm>
            <a:off x="1143000" y="147960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migrants transformed America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0"/>
          <p:cNvSpPr/>
          <p:nvPr/>
        </p:nvSpPr>
        <p:spPr>
          <a:xfrm>
            <a:off x="1066680" y="3236760"/>
            <a:ext cx="739152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ueled industrial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help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uild the railroa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worked in factories, mills, and m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i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dit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part of American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ingly, 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came active in labor unions and politic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y demanded ref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838080" y="1828800"/>
            <a:ext cx="769644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ew” immigra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outhern and Eastern European immigrant who arrived in the United States in a great wave between 1880 and 19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teera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ird-class accommodations on a steamship, which were usually overcrowded and di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lis Isl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land in New York Harbor that served as an immigration station for millions of immigrants arriving to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gel Isl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mmigrant processing station that opened in San Francisco Bay in 19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38080" y="1828800"/>
            <a:ext cx="776952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mericanizati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f that assimilating immigrants into American society would make them more loyal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elting po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ociety in which people of different nationalities assimilate to form one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ativis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f that native-born white Americans are superior to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hinese Exclusion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882 law that prohibited immigration by Chinese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5" descr="ImmigrantLight"/>
          <p:cNvPicPr/>
          <p:nvPr/>
        </p:nvPicPr>
        <p:blipFill>
          <a:blip r:embed="rId1"/>
          <a:srcRect l="50624" t="1642" r="0" b="0"/>
          <a:stretch/>
        </p:blipFill>
        <p:spPr>
          <a:xfrm>
            <a:off x="0" y="4114800"/>
            <a:ext cx="152388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1216080" y="1708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y did immigrants come to the United States, and what impact did they have upon soci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7" descr="ImmigrantDark"/>
          <p:cNvPicPr/>
          <p:nvPr/>
        </p:nvPicPr>
        <p:blipFill>
          <a:blip r:embed="rId2"/>
          <a:srcRect l="0" t="1642" r="37047" b="0"/>
          <a:stretch/>
        </p:blipFill>
        <p:spPr>
          <a:xfrm>
            <a:off x="7201080" y="4114800"/>
            <a:ext cx="194292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/>
          <p:cNvSpPr/>
          <p:nvPr/>
        </p:nvSpPr>
        <p:spPr>
          <a:xfrm>
            <a:off x="1216080" y="328464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came to the U.S. for religious and political freedom, for economic opportunities, and to escape w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216080" y="477036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dopted parts of American cultur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merican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dopted parts of immigrant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HSUS09_EQ_logoSmall.jpg"/>
          <p:cNvPicPr/>
          <p:nvPr/>
        </p:nvPicPr>
        <p:blipFill>
          <a:blip r:embed="rId3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flipH="1" rot="10792800">
            <a:off x="1060200" y="1370880"/>
            <a:ext cx="6933960" cy="1832040"/>
          </a:xfrm>
          <a:prstGeom prst="upArrowCallout">
            <a:avLst>
              <a:gd name="adj1" fmla="val 47069"/>
              <a:gd name="adj2" fmla="val 4002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9"/>
          <p:cNvSpPr/>
          <p:nvPr/>
        </p:nvSpPr>
        <p:spPr>
          <a:xfrm>
            <a:off x="1143000" y="1452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foreign-born population of the U.S. nearly doubled between 1870 and 19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0"/>
          <p:cNvSpPr/>
          <p:nvPr/>
        </p:nvSpPr>
        <p:spPr>
          <a:xfrm>
            <a:off x="1066680" y="3505320"/>
            <a:ext cx="730404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1840s and 1950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erman and Irish Cathol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d immigrated to the United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pite differences, their children were often able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lend into America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tarting in 1870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me people fear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”new” immigr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ould destroy American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1666800"/>
            <a:ext cx="746784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1143000"/>
          <a:ext cx="7467840" cy="53352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d Immigrants and “New” Immigr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58680" y="1752480"/>
          <a:ext cx="7270920" cy="4408560"/>
        </p:xfrm>
        <a:graphic>
          <a:graphicData uri="http://schemas.openxmlformats.org/drawingml/2006/table">
            <a:tbl>
              <a:tblPr/>
              <a:tblGrid>
                <a:gridCol w="2181240"/>
                <a:gridCol w="5089680"/>
              </a:tblGrid>
              <a:tr h="252072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ld Immigrants (pre-1870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re mainly Protestants from Northern and Western Eur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e as families to settle on farms with family members or frien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Had money, a skill or trade, or an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234252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w” Immigrants (post-1870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re mainly Catholics or Jews from Southern and Eastern Eur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times came alone, usually to settle in 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Were often poor and unsk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5105520" y="2104920"/>
            <a:ext cx="3124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to the United States fro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uthern and Eastern Europ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de up 70 percent of all immigrants after 1900, up from 1 percent at mid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HSUS_ch14_S1_ImgrtnChart"/>
          <p:cNvPicPr/>
          <p:nvPr/>
        </p:nvPicPr>
        <p:blipFill>
          <a:blip r:embed="rId1"/>
          <a:stretch/>
        </p:blipFill>
        <p:spPr>
          <a:xfrm>
            <a:off x="990720" y="1143000"/>
            <a:ext cx="3533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38080" y="2744640"/>
            <a:ext cx="7467840" cy="322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3716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sh 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immigration are those that push people from their homes, whil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ll 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those that attract them to a new pl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52560" y="2743200"/>
          <a:ext cx="7238880" cy="3230640"/>
        </p:xfrm>
        <a:graphic>
          <a:graphicData uri="http://schemas.openxmlformats.org/drawingml/2006/table">
            <a:tbl>
              <a:tblPr/>
              <a:tblGrid>
                <a:gridCol w="3506760"/>
                <a:gridCol w="3732120"/>
              </a:tblGrid>
              <a:tr h="4881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ush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ull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rmers were pressured by land reform and low pri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.S. offered plentiful land, employment, and opportun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tion and war disrupted economies and left political refuge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“chain immigrants” already had family in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igious persecution forced many to flee viol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igrants could find religious and political freedom in Amer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9"/>
          <p:cNvSpPr/>
          <p:nvPr/>
        </p:nvSpPr>
        <p:spPr>
          <a:xfrm>
            <a:off x="762120" y="1447920"/>
            <a:ext cx="76197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ing to America was often a tough decision. Immigrants usuall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rought only what they could car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raveled by steamship i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teerage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HSUS_ch14_S1_Steerage"/>
          <p:cNvPicPr/>
          <p:nvPr/>
        </p:nvPicPr>
        <p:blipFill>
          <a:blip r:embed="rId1"/>
          <a:stretch/>
        </p:blipFill>
        <p:spPr>
          <a:xfrm>
            <a:off x="1467000" y="2895480"/>
            <a:ext cx="6172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9:39Z</dcterms:modified>
  <cp:revision>218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